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A7973-DEFA-4D7F-8D81-563780C7F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definition of Technology.  Remind them to frame everything in terms of what they want their kids to know and be able to do in the 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D7DAE-453B-4E19-BD1C-0CDCFC007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ly in. They come from the Teacher Leadership Academy that was done last year. The goal is to incorporate cognitive norms as well as behavior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D7455-817D-41D3-AF1D-8A0267DDF5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grant as it was wri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69C88-AAA7-45F8-80B4-B88766A85E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ance tickets, formative assessment, take tickets and read at first br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47E79-F877-4BE1-A6C4-746E5CC76E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he difference between the agenda and the learning targets &amp; criteria for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BC3F2-8985-4C63-96DA-5FD38FF8AC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tute for Library and Information Literacy Education supported TRAILS development through IMLS and U.S. Dept. of Education grants. The site contains many resources, including lesson plans and pathfin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87287-D45D-4EA7-9165-3B98A05B56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C9C-B3A7-4EB0-B6FC-24890CCC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73D-7ED7-4B41-B587-FB9C481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42C-8191-4E7F-BA45-533603AD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6C5-7106-4284-9F94-42AFEF20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7673-82E2-440F-A264-7AC581C4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36E-CE78-4576-AABD-7F02262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23C1-D951-4E3A-A3A5-0A9BF6E8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0914-8E40-486D-90D0-402BFD3C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1818-3591-46F6-8232-99B47E93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664-D9BB-40BE-AA15-2D22947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0B1-83F2-4CA5-95B9-834282A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D2D-A49A-47F1-BC5C-71F2CA0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E4B-DF81-4FDA-B5DB-E031F96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5676-58C2-4D4F-8B25-0AE5F8F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9A4-F82E-454B-A183-739339F4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0792-F957-47F3-9471-3C00E470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E402-D26C-43E4-85A6-00C24B7A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8F26-4BED-4AFB-9F82-379B6F72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8737-CCAC-4DB8-B904-A67DC5C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202F-4EFC-4B55-BFCB-73CABB3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DD43-4C72-4E53-9FB3-2E06584C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2C58-E503-4EC1-92BC-02FD2CA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427-498E-4017-A14A-CE99AB2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87A8-5433-4ADF-A58A-42FE57AE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9A4B-5653-4BC2-BFE7-065AA0A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2E66-5581-4414-8863-9EC68B6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156C-D0FD-4B38-99EE-496688D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AF61-245A-48E2-AC66-63E9584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E35F-0E05-4AE5-AEFF-75585EBA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D0E9-4C30-4B49-8D78-B0E1258A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D70A-B100-4D87-A533-A13F6168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C3FB-4E9A-4261-B016-406E1E5F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B4EF-6693-4AEA-BD6C-118D0907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8B1-BC3E-4AEB-835C-F7C02EE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28B7-3599-41DD-BA7A-AE5AD639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D9E4-604E-49F0-A3DA-BF29B4E2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70DF-2D77-48CD-A16B-71B9091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9C3B-FC04-4BFA-8793-5EB88A48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71F7-D462-46DE-AC29-2D0C624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E225-32F1-44F7-8E54-705F43F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62DD-C1C0-4DF9-8436-E434EB3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5B3B-A978-4B9F-B0AF-1F400795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2147-00F1-4AB9-81FE-A81FF88E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017C4-17A7-4C7C-80CF-54748147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118-150E-45B9-A4E8-810A67B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469A-85B1-4F10-A001-6790E76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C30D-C93A-4561-A7FB-B607054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DDBC-D571-4CD4-96DA-CFB68FEE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8EEC-4AC2-46A3-9FFC-628FF51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99BA-2A3D-494A-A3D0-A6AFAC3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8864-D938-4182-B39F-9C1EF78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300A-2565-4798-BFC8-624D280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0C9F-0482-4E1A-BF2B-B284CB4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42680-FA2E-43DA-B5BD-F8F2100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8396-7778-48AF-9D34-D2209F9E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00E-80C5-44EA-B0B0-03A0EF8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B6718-1B06-4D0B-A5AC-36A8CCB5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A76AB-905B-4029-B42C-2B662322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A8B1-BE57-4461-B3B7-C5F7D526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AE63-FE49-4385-99F1-A577596E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9975-AECB-4894-821E-D541F10F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CF0A-357C-4F8B-A233-5D5798C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9FBE-289F-4FB0-A422-8254A6E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C99F-CDAB-420C-A696-21317B7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D1B1E-E40F-4D66-9CA0-E822B7A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2303-1F0C-402D-9650-3017EC7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028-2767-4F5C-B5C6-598E016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45461-6FD2-48CB-99BE-E249BF0D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E085E-1406-4124-B1E8-9C1ED421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7839-CB4F-4EE1-873B-527D1152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7D3-9233-44D4-AB12-4265FAC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3DD-BC5F-4B70-9C2B-8A1CA2E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3E0A4-8964-4926-B060-8D84C9E7F81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6D6BB-3EC4-4DD9-B490-FBB474E2970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A542D-21A9-4BAB-8FE6-173D86E1DA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CCA60-8D9F-4AB5-8701-178AC6B1F91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A2B28-A354-4196-A5C4-C07C1791A2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E327B-5575-42E7-8EEC-886668B8AE0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cspdpresentationnorms1110.ppt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youtube.com/watch?v=7ECAVxbfsfc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963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" descr="C:\Users\Barb\AppData\Local\Microsoft\Windows\Temporary Internet Files\Content.IE5\9X90NMZ0\MCj04325470000[1].png"/>
          <p:cNvPicPr/>
          <p:nvPr/>
        </p:nvPicPr>
        <p:blipFill>
          <a:blip r:embed="rId2"/>
          <a:stretch/>
        </p:blipFill>
        <p:spPr>
          <a:xfrm>
            <a:off x="3206880" y="4159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836640" y="2176560"/>
            <a:ext cx="749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ions &amp; Lear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mbedded skills provoked your thinking for you as well as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Wordle Tag Cloud rota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960" y="336600"/>
            <a:ext cx="7772400" cy="56944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2286000" y="603108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ASL Standards for the 21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entury Learn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e created in Wordle: </a:t>
            </a:r>
            <a:r>
              <a:rPr b="0" lang="en-US" sz="14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www.wordle.net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5145120" y="5707080"/>
            <a:ext cx="34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7ECAVxbfsf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875988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Franklin Gothic Book"/>
              </a:rPr>
              <a:t>Guiding Principle/Mantra</a:t>
            </a:r>
            <a:endParaRPr b="0" lang="en-US" sz="5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31880" y="2144880"/>
            <a:ext cx="768024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NEVE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TOO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- it’s about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YOU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urriculum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k the tool to match the curriculum </a:t>
            </a:r>
            <a:r>
              <a:rPr b="0" lang="en-US" sz="3400" spc="-1" strike="noStrike">
                <a:solidFill>
                  <a:srgbClr val="86133e"/>
                </a:solidFill>
                <a:latin typeface="Arial"/>
              </a:rPr>
              <a:t>NO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curriculum to match the too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3200" y="257040"/>
            <a:ext cx="78120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Norms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125000"/>
            <a:ext cx="7313760" cy="55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will we work togeth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nor everyone’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sten to learn and apply to your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lance participation and share air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actice tools, strategie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aphrase, probe, 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spend 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ect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mit to practice and follow-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f advo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oid technological dis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1" descr=""/>
          <p:cNvPicPr/>
          <p:nvPr/>
        </p:nvPicPr>
        <p:blipFill>
          <a:blip r:embed="rId1"/>
          <a:stretch/>
        </p:blipFill>
        <p:spPr>
          <a:xfrm>
            <a:off x="-304920" y="268200"/>
            <a:ext cx="4907160" cy="4627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goals1.png"/>
          <p:cNvPicPr/>
          <p:nvPr/>
        </p:nvPicPr>
        <p:blipFill>
          <a:blip r:embed="rId2"/>
          <a:stretch/>
        </p:blipFill>
        <p:spPr>
          <a:xfrm>
            <a:off x="3324240" y="0"/>
            <a:ext cx="5819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80040" y="1676520"/>
            <a:ext cx="3744720" cy="43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What do you hope to learn </a:t>
            </a:r>
            <a:r>
              <a:rPr b="1" lang="en-US" sz="3600" spc="-1" strike="noStrike" u="sng">
                <a:solidFill>
                  <a:srgbClr val="6ea0b0"/>
                </a:solidFill>
                <a:uFillTx/>
                <a:latin typeface="Franklin Gothic Book"/>
              </a:rPr>
              <a:t>today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?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What are </a:t>
            </a:r>
            <a:r>
              <a:rPr b="1" lang="en-US" sz="3600" spc="-1" strike="noStrike" u="sng">
                <a:solidFill>
                  <a:srgbClr val="6ea0b0"/>
                </a:solidFill>
                <a:uFillTx/>
                <a:latin typeface="Franklin Gothic Book"/>
              </a:rPr>
              <a:t>you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 going to do to make sure you get there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Placeholder 8" descr="goals1.png"/>
          <p:cNvPicPr/>
          <p:nvPr/>
        </p:nvPicPr>
        <p:blipFill>
          <a:blip r:embed="rId1"/>
          <a:stretch/>
        </p:blipFill>
        <p:spPr>
          <a:xfrm>
            <a:off x="639720" y="974880"/>
            <a:ext cx="4200480" cy="5445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556240" y="334800"/>
            <a:ext cx="3054240" cy="26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ance Ticket: on the note card provided, write your name and answer to these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1880" y="-106200"/>
            <a:ext cx="768024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Learning Targe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2800" y="1338120"/>
            <a:ext cx="7680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understand how to locate and integrat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4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tandards into their daily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understand how to access and utilize the ECS Digital Resources into their daily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31880" y="3311640"/>
            <a:ext cx="72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caf0a"/>
                </a:solidFill>
                <a:latin typeface="Arial"/>
              </a:rPr>
              <a:t>Criteria for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955800" y="3957480"/>
            <a:ext cx="76802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be able to design a lesson plan that incorporates th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4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tandar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be able to locate and integrate ECS Digital Resources into their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genda </a:t>
            </a:r>
            <a:br>
              <a:rPr sz="46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– </a:t>
            </a: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he activities that will guide us to the learning target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48800" y="2405160"/>
            <a:ext cx="7680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RAIL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ioning for Tomorrow’s Learn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rning 4 Lif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CDE State Standards/Curriculum Essenti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igning &amp; Planning Instr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vering ECS Digital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554040" y="541440"/>
            <a:ext cx="797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to assess YOUR skill level! 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take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L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9 Assessmen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your browser to the following URL and I will provide you with an individual student nu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Lu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lease keep a notepad beside you to make notations on items that challenged you, would challenge your exiting 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rs and what kinds of learning experiences might need to be designed in order to build teacher/student capacity to achieve success on this assess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rails-9.org/session/438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22200" y="4915080"/>
            <a:ext cx="680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33:26Z</dcterms:created>
  <dc:creator>David Russell</dc:creator>
  <dc:description/>
  <dc:language>en-US</dc:language>
  <cp:lastModifiedBy>Eagle Schools</cp:lastModifiedBy>
  <dcterms:modified xsi:type="dcterms:W3CDTF">2010-11-16T16:13:45Z</dcterms:modified>
  <cp:revision>31</cp:revision>
  <dc:subject/>
  <dc:title>Slide 1</dc:title>
</cp:coreProperties>
</file>